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6E7-808B-40BB-9ABF-25C3B69E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BE9-0E4F-4E19-B5B7-52B8F72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81C-9CCF-4E14-AF4D-BFD33A28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1CF-EB08-4A12-A1DE-7801B86B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BA1-90B6-4E30-90FF-67260E4A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AE24-2CFD-4E8D-979B-2B64304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4E51-4312-4A6E-9BD3-57E9FB1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DD4-FE61-4C2E-AF78-5FDC8B5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C944-7004-4146-872A-579344D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3105-DE4E-4435-B446-6C9B5F7B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8BB-DC14-4687-B6C3-427F15C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1BD-0C9D-48EE-8BD2-311120A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2C0E-5EE4-4ED6-8FE8-CE516F3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CD34-0387-4C74-8C51-8DED36B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4D53-A537-4E83-89D3-44EF56E9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237-17F2-4157-AF20-F97AE45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499-E5E3-4D3D-BF6C-8675740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A08-7D46-4F39-97A6-E6A411B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8B1-F97D-485E-94BB-E0857E5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E48-9915-45A2-A85A-2988CC5E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170-A664-497B-BABC-F05BB40F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E6C-A84A-4B91-9BCD-156D09E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D88-B77E-431D-A0A2-79E8F75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34E-20EE-419A-98D7-DA917EF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A98-8F6E-4208-81C4-C638E6E3CD2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 </a:t>
            </a: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F99-2E1A-4CC9-AF25-8CBBAE19CAD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to Decide on the Applicability of Clinical Trials Results to Your  Patient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6048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869000"/>
            <a:ext cx="640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2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2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534520" y="228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.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 Are there important differences in patient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omplian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riability in compliance between populations may stem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source  limitations in a particular sett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Less obvious attitudinal or behavioral idiosyncras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.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S ABOUT 1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BOUT 50% PERCENT IN GENERAL POPULATION VS 90% RESEARCH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NDRONAT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ther indigent patients nor their society may be able to affor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eated clinic visit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ests for treatment monitor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Times New Roman"/>
              </a:rPr>
              <a:t>Probability of adverse events that have not yet occurred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438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965160"/>
            <a:ext cx="906768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ore than 10% of FDA approved have serious side effects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Times New Roman"/>
              </a:rPr>
              <a:t>Rule of thre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= 1-risk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in  </a:t>
            </a:r>
            <a:r>
              <a:rPr b="1" i="1" lang="en-US" sz="2700" spc="-1" strike="noStrike">
                <a:solidFill>
                  <a:srgbClr val="1fffff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patiant = (1-risk )^ 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(1- maxrisk ) ^ n = 0.05                   1- maxrisk =(0.05)^(1/n)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1-maxrisk = 1-3/n                            Maxrisk = 3/n  ; n &gt; 3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95% confident of adverse event  = 0/n – 3/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4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4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vider complia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safety and efficacy of the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conditions in a health care center, access to equipment, technologic expertise, and availability and skill of health personnel may influence treatment effective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Monitoring in two centers (BM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Precision IRAN Vs USA Vs research?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Repeated BMD ( every year 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linicians look more often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uide their clinical care, they must decide how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CT results to individual patients in their practice set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 whether there are compell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y the results should not be applied to the patient. A compelling reason usual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n'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f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ess-industrialized countries many hospitals and clinics 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have easy access to sophisticated equip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problems of provider compliance are therefore comm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while rheumatic atrial fibrillation remains a common problem in Asian countries, very few laboratories in rural areas perform the tests necessary for titration of warfarin do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52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53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480" y="1981080"/>
            <a:ext cx="8915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5. Do my patients have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co-morbid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conditions that significantly alter the potential benefits and risks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esence of other conditions in a particular locality may affect treatment efficiency in two possible way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competing diagnostic pos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competing etiologies of outc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ng causes of target events may also affect the magnitude of benef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ample comes from the management of acu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ome Filipino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hilippine study, non-cardiac causes (most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neumon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sepsis) were responsible for 11 of the 30 deaths. Streptokinase will not reduce mortality in such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verage may result in a greater (and more economical) reduction in mortality for patients who develop pneumon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:BMD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r dis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65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480" y="1600200"/>
            <a:ext cx="8915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untreated patients' risk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of adverse outcomes that might alter the efficiency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7480" y="44280"/>
            <a:ext cx="860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-specific incidence rates for Hip , Vertebr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d distal Forearm fractures in men and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473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" y="63342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ooper C &amp; Melton 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5080" y="62373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908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016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128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75800" y="1187280"/>
            <a:ext cx="55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33"/>
                </a:solidFill>
                <a:latin typeface="Tahoma"/>
              </a:rPr>
              <a:t>EXAMPL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96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9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5600" y="455760"/>
            <a:ext cx="51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Risk of Fra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74280" y="1924200"/>
            <a:ext cx="4970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 50 years old 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Women 4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Men 1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02360" y="14400"/>
            <a:ext cx="7527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Risk of Fracture in Ir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(In more than 50 years old popu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71680"/>
            <a:ext cx="9144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ran population in 1381:                            65,540,2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– 95 and more = 11.5% =                       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7,497,8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% = 3,673,9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isk of Fracture=40 /100 =  1,469,5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&gt; 50 (at risk) =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1,469,5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+  573,581 =  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09600"/>
            <a:ext cx="86868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ree common forms of r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rude or unadjusted 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cases occurring in the total  observed popu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Crude birth rate, crude death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ecific or stratified rat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es that are specific for age and sex are most likely true difference in disease risk between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sex-specific, age-specific, race-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djusted or standardized rates: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frequency of the disease varies by both age and sex , there are 20 or more rates for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age-adju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LFP IN IRAN Vs 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 ADJUSTMENT FOR FRA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PROBABILITY OF FRACTURE IN 50/Y OLD WOMEN? IS IT REALLY 40%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MORTALITY FROM CAD AMONG JAPAN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OF 100000 AND IN IRLAND 414 IN 10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RR OF FRACTURE PER SD IN ASIAN VS WH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76320"/>
            <a:ext cx="853452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untreated patients' risk?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X tria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ER = 6 %  Age =70 +  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ER = 3 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R = CER – EER = 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NT = 1/ARR = 1/ 0.03 = 3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ER = 1/1000  Age = 55 + 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ER = 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RR=1/1000-1/2000=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NT = 1/ARR= 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4267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 in disease pathophysiology do not always mean that applicability is limited. Management of a cataract, for instance, will probably be the same regardless of the ca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in treatment response can sometimes be accommodated by altering administration of a treatment (such as adjusting the dose of a drug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uide numbers 3 and 4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Education, training, provision of necessary equipment, and other attempts at optimizing compliance may address problems in patient and provider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s 5 and 6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or differences in co-morbid conditions or expected target event rates the clinician's response will depend on the difference obser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ticipated (as when dis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gnosis is wo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he incidence of an adverse outcome is greater), a recommendation to treat can be more easily accep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n the other hand, should lead clinicians to be more cautious in accepting a treatment recommend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answer to one or more of the Guide questions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 differences noted ar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or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not easily remediable, clinicians should not assume that the trial results can be readily appli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se instances, an additional RCT may be warra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Biologic Issue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Are there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athophysiologi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ifferences in the under study that may lead to a diminished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udgement about whether to give  drug X will depend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treatment ( the patients themselve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and fami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at resources are available (usually very limited in our charity hospital se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for example, the need for  repeated BMD ,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ot based on western bias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5238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Clinicians will be valued by how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hink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 and not by what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now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757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04920" y="1981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193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63400"/>
            <a:ext cx="91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1.Vitamin d deficiency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5248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2.Ca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15560" y="4133880"/>
            <a:ext cx="370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phosphonate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de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resorp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286000"/>
            <a:ext cx="12952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895480"/>
            <a:ext cx="533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6840" y="152280"/>
            <a:ext cx="66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.pathophysiologic differen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pathophysiologic difference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 axis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on in blacks, which has been observed to be relatively responsive to diuretics, and unresponsive to beta-bloc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480" y="1676520"/>
            <a:ext cx="891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2. Are there </a:t>
            </a:r>
            <a:r>
              <a:rPr b="1" lang="en-US" sz="3600" spc="-1" strike="noStrike">
                <a:solidFill>
                  <a:srgbClr val="ff0033"/>
                </a:solidFill>
                <a:latin typeface="Verdana"/>
              </a:rPr>
              <a:t>patient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differences that may diminish the treatment respon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-population differences in response to treatment may aris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differences in drug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differences in immune respon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differences in environmental factors that affect drug toxicit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yroid dysfunction from amiodarone differs in low versus high iodine environ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OW PEAK BONE MAS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ITAMIN D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5:59:33Z</dcterms:created>
  <dc:creator>Akbar Soltani M.D.</dc:creator>
  <dc:description/>
  <dc:language>en-US</dc:language>
  <cp:lastModifiedBy>HR</cp:lastModifiedBy>
  <dcterms:modified xsi:type="dcterms:W3CDTF">2007-04-20T05:59:06Z</dcterms:modified>
  <cp:revision>146</cp:revision>
  <dc:subject/>
  <dc:title>APPLYING THE RESULTS TO OUR PATIENTS</dc:title>
</cp:coreProperties>
</file>