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039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5800" y="3827160"/>
            <a:ext cx="831240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960" y="126324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5800" y="382716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960" y="382716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267624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6320" y="1263240"/>
            <a:ext cx="267624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6840" y="1263240"/>
            <a:ext cx="267624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5800" y="3827160"/>
            <a:ext cx="267624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6320" y="3827160"/>
            <a:ext cx="267624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6840" y="3827160"/>
            <a:ext cx="267624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405612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960" y="1263240"/>
            <a:ext cx="405612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69360" y="71280"/>
            <a:ext cx="83934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960" y="1263240"/>
            <a:ext cx="405612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15800" y="382716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405612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960" y="126324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960" y="382716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960" y="1263240"/>
            <a:ext cx="405612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5800" y="3827160"/>
            <a:ext cx="8312400" cy="234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mphony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971640" indent="-343080">
              <a:spcBef>
                <a:spcPts val="700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314360" indent="-228600">
              <a:spcBef>
                <a:spcPts val="700"/>
              </a:spcBef>
              <a:buClr>
                <a:srgbClr val="ffff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657440" indent="-22860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d073ce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62fa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3262fa"/>
                </a:solidFill>
                <a:latin typeface="Tahoma"/>
              </a:rPr>
              <a:t>EBMWT.EMRC                                                A.SOLTANI                                                           TU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oltaniebm.com/" TargetMode="External"/><Relationship Id="rId2" Type="http://schemas.openxmlformats.org/officeDocument/2006/relationships/hyperlink" Target="http://www.ebm.ir/" TargetMode="External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ahoma"/>
              </a:rPr>
              <a:t>How to Decide on the Applicability of Clinical Trials Results OF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NEW DRUGS</a:t>
            </a:r>
            <a:r>
              <a:rPr b="1" lang="en-US" sz="3600" spc="-1" strike="noStrike">
                <a:solidFill>
                  <a:srgbClr val="00ffff"/>
                </a:solidFill>
                <a:latin typeface="Tahoma"/>
              </a:rPr>
              <a:t> to Your Patient ?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4876920"/>
            <a:ext cx="6400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kbar 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</a:t>
            </a: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ltani. MD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, MS, Endocrinologi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hran University of Medical Sciences (TUM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docrine and Metabolism Research Center (EMR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idence-Based Medicine Research Center (EBMR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iati Hospita</a:t>
            </a:r>
            <a:r>
              <a:rPr b="1" lang="en-US" sz="1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d4a45a"/>
                </a:solidFill>
                <a:uFillTx/>
                <a:latin typeface="Arial Unicode MS"/>
                <a:ea typeface="Arial Unicode MS"/>
                <a:hlinkClick r:id="rId1"/>
              </a:rPr>
              <a:t>www.soltaniebm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d4a45a"/>
                </a:solidFill>
                <a:uFillTx/>
                <a:latin typeface="Arial Unicode MS"/>
                <a:ea typeface="Arial Unicode MS"/>
                <a:hlinkClick r:id="rId2"/>
              </a:rPr>
              <a:t>www.ebm.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433440"/>
            <a:ext cx="914400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the </a:t>
            </a:r>
            <a:r>
              <a:rPr b="0" lang="en-US" sz="3600" spc="-1" strike="noStrike">
                <a:solidFill>
                  <a:srgbClr val="1fffff"/>
                </a:solidFill>
                <a:latin typeface="Times New Roman"/>
                <a:ea typeface="Times New Roman"/>
              </a:rPr>
              <a:t>STEP acronym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sk for evidence in four specific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s: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3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  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i="1" lang="en-US" sz="3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fficac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the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relevant dimension is how the product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res with your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t favorite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en-US" sz="3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3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rice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should take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o account indirect as well as direct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ts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52000" y="4428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Bookman Old Style"/>
                <a:ea typeface="新細明體"/>
              </a:rPr>
              <a:t>a.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Symphony"/>
              </a:rPr>
              <a:t>Examples</a:t>
            </a:r>
            <a:r>
              <a:rPr b="0" lang="en-US" sz="3200" spc="-1" strike="noStrike">
                <a:solidFill>
                  <a:srgbClr val="ffffff"/>
                </a:solidFill>
                <a:latin typeface="Symphony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2200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00"/>
                </a:solidFill>
                <a:latin typeface="Tahoma"/>
              </a:rPr>
              <a:t>Brief  Critical   Appraisal</a:t>
            </a:r>
            <a:endParaRPr b="0" lang="en-US" sz="8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2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phony"/>
              </a:rPr>
              <a:t>Study 1:</a:t>
            </a:r>
            <a:r>
              <a:rPr b="0" lang="en-US" sz="3200" spc="-1" strike="noStrike">
                <a:solidFill>
                  <a:srgbClr val="ffffff"/>
                </a:solidFill>
                <a:latin typeface="Symphony"/>
              </a:rPr>
              <a:t>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Symphony"/>
              </a:rPr>
              <a:t>MRC/BHF Heart Protection Study of Antioxidant vitamin supplementation, …</a:t>
            </a:r>
            <a:endParaRPr b="0" lang="en-US" sz="24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Citation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Lancet 2002; 360: 23-33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?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Does Antiox sup (C, E, Beta Carotene) reduce death, vascular events or Ca in people with high 5 year risk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Design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RC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Subjects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20,536 (40-80 y.o.), 75% male, w high risk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Setting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69 UK Hospitals, 5 yr f/u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Control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Placebo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Allocation concealed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Blinded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Pt, Dr, Collectors, Analyzer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Analysis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IT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phony"/>
              </a:rPr>
              <a:t>Study 1:</a:t>
            </a:r>
            <a:r>
              <a:rPr b="0" lang="en-US" sz="3200" spc="-1" strike="noStrike">
                <a:solidFill>
                  <a:srgbClr val="ffffff"/>
                </a:solidFill>
                <a:latin typeface="Symphony"/>
              </a:rPr>
              <a:t>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Symphony"/>
              </a:rPr>
              <a:t>MRC/BHF Heart Protection Study of Antioxidant vitamin supplementation, …</a:t>
            </a:r>
            <a:endParaRPr b="0" lang="en-US" sz="24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Findings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No benefit (in any outcome). All NNH and NNT non-significant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Limits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One dose, high risk, duration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Strengths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RCT, # with 99.6% f/u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(83 % compliance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Funding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UK MRC, Brit Heart Found, Merck, Roche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(*Reassured us analysis was independent of funding source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Competing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5 members had travel costs paid and 1 received an honoraria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Comments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Concur other RCT (put to rest a few observational and Cambridge heart antioxidant stud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phony"/>
              </a:rPr>
              <a:t>Study 2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Symphony"/>
              </a:rPr>
              <a:t>Should we advise parents to administer OTC cough med,…</a:t>
            </a:r>
            <a:endParaRPr b="0" lang="en-US" sz="28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Citation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Arch Dis Child 2002; 86: 170-5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?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In children with URTI, are OTC cough meds effective in relieving cough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Design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Review (used Cochrane SR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Subjects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438 children in 6 studie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Selection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328 studies exclusion induced cough or chronic &amp; not OTC, RTC or placebo. 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Control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Placebo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Allocation concealed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NR (poor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Blinded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variable (pt or clinician NR for 3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Analysis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NR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9360" y="7128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phony"/>
              </a:rPr>
              <a:t>Study 2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Symphony"/>
              </a:rPr>
              <a:t>Should we advise parents to administer OTC cough med,…</a:t>
            </a:r>
            <a:endParaRPr b="0" lang="en-US" sz="28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Findings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No benefit (1 statistical but not clinical)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Limits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Few low quality studies, wide spectrum of disease, multiple drugs (anti-hist, anti-tus, mucolytics)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Strengths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SR (missed ITT)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Funding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NHS (studies NR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Competing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None acknowledged (studies NR except 1 in which cough med sponsor = analyzer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Comments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Concur other reviews (2) and for now, we can not recommend OTC’s for cough with URT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phony"/>
              </a:rPr>
              <a:t>Study 3</a:t>
            </a:r>
            <a:r>
              <a:rPr b="0" lang="en-US" sz="3200" spc="-1" strike="noStrike">
                <a:solidFill>
                  <a:srgbClr val="ffffff"/>
                </a:solidFill>
                <a:latin typeface="Symphony"/>
              </a:rPr>
              <a:t>: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Symphony"/>
              </a:rPr>
              <a:t>Homocysteine-lowering therapy improved outcomes after percutaneous,…</a:t>
            </a:r>
            <a:endParaRPr b="0" lang="en-US" sz="24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Citation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JAMA. 2002; 288:973-9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?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In pts having percutaneous coronary intervention, does homocysteine-lowering with folic, Vit B12 &amp; Vit B6 reduce adverse coronary outcome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Design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RC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Subjects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553 patients (mean age 63, 80% male) who received angioplasty.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Setting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1 hospital in Swede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Control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Placebo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Allocation concealed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Blinded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Pt, Dr, Analyzer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Analysis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IT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phony"/>
              </a:rPr>
              <a:t>Study 3</a:t>
            </a:r>
            <a:r>
              <a:rPr b="0" lang="en-US" sz="3200" spc="-1" strike="noStrike">
                <a:solidFill>
                  <a:srgbClr val="ffffff"/>
                </a:solidFill>
                <a:latin typeface="Symphony"/>
              </a:rPr>
              <a:t>: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Symphony"/>
              </a:rPr>
              <a:t>Homocysteine-lowering therapy improved outcomes after percutaneous,…</a:t>
            </a:r>
            <a:endParaRPr b="0" lang="en-US" sz="24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Findings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Benefit in Composite coronary outcomes: NNT=15 (9-167) &amp; need for revascularization: NNT=18 (11-281)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Limits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Unclear which vitamin important, Not our practice pop (yet), 83% completed (see next),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Strengths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100% analyzed, RCT, good design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Funding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Swiss National Science Foundati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Competing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NR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Comments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Concur other epidemiology.  Stopped vitamins after 6 months but followed for 1 year.  Future studies are NORVIT, WENBIT, PACIFIC, SEARCH &amp; VISP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phony"/>
              </a:rPr>
              <a:t>Study 4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Symphony"/>
              </a:rPr>
              <a:t>The Canadian Breast 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Symphony"/>
              </a:rPr>
              <a:t>Screening Study-1: breast cancer ,…</a:t>
            </a:r>
            <a:endParaRPr b="0" lang="en-US" sz="28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Citation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Ann Intern Med. 2002; 137: 305-12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?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In women age 40-49, does annual mammo, CBE and BSE reduce Ca Mortality over CBE &amp; BSE +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Design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RC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Subjects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50,849 women age 40-49 with No C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Setting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15 Canadian Centers, 13 yr f/u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Control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initial CBE + instruct BSE then “usual care”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Allocation concealed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Blinded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Outcome assessor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Analysis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IT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phony"/>
              </a:rPr>
              <a:t>Study 4: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Symphony"/>
              </a:rPr>
              <a:t>The Canadian Breast 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Symphony"/>
              </a:rPr>
              <a:t>Screening Study-1: breast cancer ,…</a:t>
            </a:r>
            <a:endParaRPr b="0" lang="en-US" sz="28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Findings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No benefi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Limits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placebo/blinding 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Strengths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RCT, # with 99.9% f/u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Funding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10 Canadian Agencie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Competing: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NR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Comments: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ome conflicting (Swed study) but overall mammogram seems to be no help in 40-49 y.o. At best, &lt;1/10,000 pt yrs. Mammo down sides = false +ve, poor with family Hx and radiation induced Ca negates any benefit &lt;10%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9360" y="41904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ffff"/>
                </a:solidFill>
                <a:latin typeface="Symphony"/>
              </a:rPr>
              <a:t>Checklist for evaluating information provided by a drug company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04840" y="1981080"/>
            <a:ext cx="86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930960" indent="-501480">
              <a:buClr>
                <a:srgbClr val="ffff00"/>
              </a:buClr>
              <a:buSzPct val="7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Has any significant evidence been omitted from this presentation or withheld from publication?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93096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9309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9309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2.   Does the material include high-level evidence such as systematic reviews, meta-analyses, or double-blind randomized controlled trials against the drug's closest competitor?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15800" y="126324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00"/>
                </a:solidFill>
                <a:latin typeface="Tahoma"/>
              </a:rPr>
              <a:t>THANK YOU</a:t>
            </a:r>
            <a:endParaRPr b="0" lang="en-US" sz="8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9360" y="571320"/>
            <a:ext cx="8393400" cy="952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ffff"/>
                </a:solidFill>
                <a:latin typeface="Symphony"/>
              </a:rPr>
              <a:t>Checklist for evaluating information provided by a drug company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04840" y="1981080"/>
            <a:ext cx="86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3. Has each trial or meta-analysis defined the condition to be treated, the patients to be included, the interventions to be compared and the outcomes to be examined?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4. Does the material provide direct evidence that the drug will help my patients live a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longer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healthier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, more productive, and symptom-free life?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99072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9360" y="53352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ffff"/>
                </a:solidFill>
                <a:latin typeface="Symphony"/>
              </a:rPr>
              <a:t>Checklist for evaluating information provided by a drug company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2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5. If a surrogate outcome measure has been used, what is the evidence that it i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reliable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sensitive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,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specific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, a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true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predictor of disease, and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rapidly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reflects the response to therapy?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893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893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6. If large amounts of material have been provided by the representative, which three papers provide the strongest evidence for the company's claims?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2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89388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89388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ffff"/>
                </a:solidFill>
                <a:latin typeface="Symphony"/>
              </a:rPr>
              <a:t>Checklist for evaluating information provided by a drug company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040" y="1238400"/>
            <a:ext cx="8724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942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942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942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7. Do trial results indicate whether (and how) the effectiveness of the treatments differed and whether there was a difference in the type or frequency of </a:t>
            </a:r>
            <a:r>
              <a:rPr b="1" lang="en-US" sz="2800" spc="-1" strike="noStrike">
                <a:solidFill>
                  <a:srgbClr val="00b7a5"/>
                </a:solidFill>
                <a:latin typeface="Tahoma"/>
              </a:rPr>
              <a:t>adverse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reactions? Are the results expressed in terms of numbers needed to treat, and are they clinically as well as statistically significant?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942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9360" y="647640"/>
            <a:ext cx="8393400" cy="952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ffff"/>
                </a:solidFill>
                <a:latin typeface="Symphony"/>
              </a:rPr>
              <a:t>Checklist for evaluating information provided by a drug company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9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71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8. Ignore anecdotal "evidence," such as the fact that a medical celebrity is prescribing the product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97164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971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9. Do not look at promotional brochures, which may contain unpublished material, misleading graphs, and selective quotations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97164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ffff"/>
                </a:solidFill>
                <a:latin typeface="Symphony"/>
              </a:rPr>
              <a:t>Checklist for evaluating information provided by a drug company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5800" y="1644120"/>
            <a:ext cx="8312400" cy="490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71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10. Request independent published evidence from reputable, peer reviewed journals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971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971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11. Do not accept the newness of a product as an argument for changing to it. Indeed, there are good scientific arguments for doing the opposite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97164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1868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66ffff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fffff"/>
                </a:solidFill>
                <a:latin typeface="Symphony"/>
              </a:rPr>
              <a:t>Checklist for evaluating information provided by a drug company</a:t>
            </a:r>
            <a:endParaRPr b="0" lang="en-US" sz="3200" spc="-1" strike="noStrike">
              <a:solidFill>
                <a:srgbClr val="ffffff"/>
              </a:solidFill>
              <a:latin typeface="Symphony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5800" y="1720440"/>
            <a:ext cx="8312400" cy="36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12. Do not accept pathophysiologic reasons in the drug's favour (effect on osteoclast) without direct evidence that this translates into clinical benefit 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7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00160"/>
            <a:ext cx="9144000" cy="53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the </a:t>
            </a:r>
            <a:r>
              <a:rPr b="0" lang="en-US" sz="3600" spc="-1" strike="noStrike">
                <a:solidFill>
                  <a:srgbClr val="1fffff"/>
                </a:solidFill>
                <a:latin typeface="Times New Roman"/>
                <a:ea typeface="Times New Roman"/>
              </a:rPr>
              <a:t>STEP acronym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sk for evidence in four specific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as: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en-US" sz="3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  </a:t>
            </a:r>
            <a:r>
              <a:rPr b="0" i="1" lang="en-US" sz="3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afety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the likelihood of long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 or serious side effects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used by the drug (remember that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re but serious adverse reactions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new drugs may be poorly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cumented)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i="1" lang="en-US" sz="3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olerability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st measured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comparing the pooled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thdrawal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tes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tween the drug and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s most significant competitor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5T10:57:18Z</dcterms:created>
  <dc:creator>Akbar Soltani, M.D.</dc:creator>
  <dc:description/>
  <cp:keywords/>
  <dc:language>en-US</dc:language>
  <cp:lastModifiedBy>HR</cp:lastModifiedBy>
  <cp:lastPrinted>2000-10-19T15:44:26Z</cp:lastPrinted>
  <dcterms:modified xsi:type="dcterms:W3CDTF">2007-04-20T05:59:51Z</dcterms:modified>
  <cp:revision>539</cp:revision>
  <dc:subject/>
  <dc:title>APPROACH TO NEW DRUG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80455965</vt:r8>
  </property>
  <property fmtid="{D5CDD505-2E9C-101B-9397-08002B2CF9AE}" pid="3" name="_AuthorEmail">
    <vt:lpwstr>ryan@mid-hudson.com</vt:lpwstr>
  </property>
  <property fmtid="{D5CDD505-2E9C-101B-9397-08002B2CF9AE}" pid="4" name="_AuthorEmailDisplayName">
    <vt:lpwstr>Ryan Osswald</vt:lpwstr>
  </property>
  <property fmtid="{D5CDD505-2E9C-101B-9397-08002B2CF9AE}" pid="5" name="_EmailSubject">
    <vt:lpwstr>Dr. Rush's Power Point</vt:lpwstr>
  </property>
  <property fmtid="{D5CDD505-2E9C-101B-9397-08002B2CF9AE}" pid="6" name="_ReviewingToolsShownOnce">
    <vt:lpwstr/>
  </property>
</Properties>
</file>