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800" y="3827160"/>
            <a:ext cx="831240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80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96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6320" y="126324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6840" y="126324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5800" y="382716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6320" y="382716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6840" y="382716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360" y="71280"/>
            <a:ext cx="83934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1580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96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5800" y="3827160"/>
            <a:ext cx="831240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phony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71640" indent="-34308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314360" indent="-22860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657440" indent="-2286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d073ce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EBMWT.EMRC                                                A.SOLTANI                                                           TU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9900"/>
                </a:solidFill>
                <a:uFillTx/>
                <a:latin typeface="Symphony"/>
              </a:rPr>
              <a:t>An Introduction to </a:t>
            </a:r>
            <a:br>
              <a:rPr sz="4400"/>
            </a:br>
            <a:r>
              <a:rPr b="0" lang="en-US" sz="4400" spc="-1" strike="noStrike" u="sng">
                <a:solidFill>
                  <a:srgbClr val="ff9900"/>
                </a:solidFill>
                <a:uFillTx/>
                <a:latin typeface="Symphony"/>
              </a:rPr>
              <a:t>Systematic Vs Narrative  Reviews and Textbooks </a:t>
            </a:r>
            <a:endParaRPr b="0" lang="en-US" sz="4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41" name=""/>
          <p:cNvSpPr/>
          <p:nvPr/>
        </p:nvSpPr>
        <p:spPr>
          <a:xfrm>
            <a:off x="1523880" y="4952880"/>
            <a:ext cx="6400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4a45a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4a45a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Symphony"/>
              </a:rPr>
              <a:t>Systematic reviews are needed whenever there is: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800" y="1899720"/>
            <a:ext cx="8312400" cy="30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A substantive therapeutic ques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everal primary studies (perhaps with disparate findings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ubstantial uncertaint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8534520" y="228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ahoma"/>
              </a:rPr>
              <a:t>a.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22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Tahoma"/>
              </a:rPr>
              <a:t>Textbooks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Drawback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Benefit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Practical points 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Drawbacks </a:t>
            </a:r>
            <a:endParaRPr b="0" lang="en-US" sz="4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ize that authors of reviews and textbooks and speakers at educational conferences often begin with their predetermined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onclusion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nd then find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ference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to support only this point of vie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urthermore, cited references often d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t actually support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the conclusion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Drawbacks</a:t>
            </a:r>
            <a:endParaRPr b="0" lang="en-US" sz="4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flaw is not uncommon: one study of review articles found that 24% of the referenced articles were not correctly summarised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Drawbacks</a:t>
            </a:r>
            <a:endParaRPr b="0" lang="en-US" sz="4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isdom gained through experience helps clinician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iagnos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disease and perform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rocedur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xperience i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adequate to remain proficient in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eatment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proficiency also requires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nowledg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of the medical literature and the ability to think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ritically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with an open mind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ystematic analyses?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Drawbacks</a:t>
            </a:r>
            <a:endParaRPr b="0" lang="en-US" sz="4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y should always emphasiz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OEM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first when forming a recommendation, even when this information conflicts with disease oriented evidence or their own clinical experience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en the author presents information seems to be a POEM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, the original article must be retrieved for evaluation to confirm the author's contention“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Symphony"/>
              </a:rPr>
              <a:t>Bottom-line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cepting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onclus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f summary reviews may be risky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e usually do not have the ability to assess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validit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f the supporting data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evel of evidence?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Tahoma"/>
              </a:rPr>
              <a:t>Textbooks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Drawback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Benefit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Practical points 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Symphony"/>
              </a:rPr>
              <a:t>Benefits</a:t>
            </a:r>
            <a:endParaRPr b="0" lang="en-US" sz="6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27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ppropriate for describing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istor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velopment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f a problem and its management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y may be particularly useful for  discussing data in light  of underlying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or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nd context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Symphony"/>
              </a:rPr>
              <a:t>Benefits</a:t>
            </a:r>
            <a:endParaRPr b="0" lang="en-US" sz="6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road range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xample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, textbook chapter or a narrative review on diabetes  might include sections on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physiolog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pathophysiolog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f carbohydrate,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epidemiolog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f and prognosis associated with diabetes; diagnostic and screening approaches,…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Background inform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943600" y="2895480"/>
            <a:ext cx="2590920" cy="381240"/>
          </a:xfrm>
          <a:prstGeom prst="roundRect">
            <a:avLst>
              <a:gd name="adj" fmla="val 16667"/>
            </a:avLst>
          </a:prstGeom>
          <a:solidFill>
            <a:srgbClr val="d4a4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1760" y="30492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dical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5040" y="175248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 (analytic)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520" y="3699000"/>
            <a:ext cx="228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erim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nrando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led 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440" y="3733920"/>
            <a:ext cx="296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serv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se-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oss se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ptive, 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se repo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99160" y="175248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ary (integrative)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2860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048120"/>
            <a:ext cx="3124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04812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04812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911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191120"/>
            <a:ext cx="1828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1295280"/>
            <a:ext cx="4648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12952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295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02640" y="2479680"/>
            <a:ext cx="307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a-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atic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onsystematic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itorial,com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actice guid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cin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2209680"/>
            <a:ext cx="4038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Symphony"/>
              </a:rPr>
              <a:t>Benefits</a:t>
            </a:r>
            <a:endParaRPr b="0" lang="en-US" sz="6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us textbooks may be most useful for obtaining a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broad perspective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on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 topic; they are less often useful i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urnishing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ahoma"/>
              </a:rPr>
              <a:t>quantitative answer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to specific clinical question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Symphony"/>
              </a:rPr>
              <a:t>Benefits</a:t>
            </a:r>
            <a:endParaRPr b="0" lang="en-US" sz="6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re especially good for topics that hav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t changed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much in recent years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example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: clinical diagnosis of acute abdomen Palpation of the thyroid gland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ut are limited source of information that are changing rapidl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example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: HIV, PU , Type 2 diabetes renal Disease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Tahoma"/>
              </a:rPr>
              <a:t>Textbooks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Drawback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Benefit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Practical points 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Symphony"/>
              </a:rPr>
              <a:t>Practical points</a:t>
            </a:r>
            <a:endParaRPr b="0" lang="en-US" sz="6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linicians using review articles to keep up to date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do not have to read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the entire article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t is acceptable to read the article headlines, abstract, or conclusion first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f a statement is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firmly rooted in patient oriented evidence it can be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disregarded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nce you've located a POEM, the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original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research data must be evaluated for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validity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8031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ature                 Narrative Review                  Systematic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447920"/>
            <a:ext cx="8610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240" y="1488960"/>
            <a:ext cx="88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stion                 often broad in scope              often a focused clin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828800"/>
            <a:ext cx="12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60" y="251460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s and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5080" y="2438280"/>
            <a:ext cx="277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usually spec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ly bi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47960" y="2362320"/>
            <a:ext cx="35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rehensive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explicit search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7880" y="35053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5080" y="33526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usually spec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ly bi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4360" y="3276720"/>
            <a:ext cx="32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terion-based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formly appl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2670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ai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2670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1360" y="426708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orous critical apprai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640" y="50292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47800" y="499428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 a qualit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43280" y="499428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ntitative 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8720" y="59850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2400" y="601992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evidence-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57720" y="601992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evidence-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33520"/>
            <a:ext cx="8534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080" y="4465800"/>
            <a:ext cx="908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umber-Level of references-Same auth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3800" y="2770200"/>
            <a:ext cx="32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ferenc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02680" y="285840"/>
            <a:ext cx="367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EM or DO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51640" y="1587600"/>
            <a:ext cx="392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ke conflic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836640"/>
            <a:ext cx="0" cy="792000"/>
          </a:xfrm>
          <a:prstGeom prst="line">
            <a:avLst/>
          </a:prstGeom>
          <a:ln cap="sq" w="7920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2349360"/>
            <a:ext cx="0" cy="792360"/>
          </a:xfrm>
          <a:prstGeom prst="line">
            <a:avLst/>
          </a:prstGeom>
          <a:ln cap="sq" w="7920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3860640"/>
            <a:ext cx="0" cy="792360"/>
          </a:xfrm>
          <a:prstGeom prst="line">
            <a:avLst/>
          </a:prstGeom>
          <a:ln cap="sq" w="7920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5084640"/>
            <a:ext cx="0" cy="792360"/>
          </a:xfrm>
          <a:prstGeom prst="line">
            <a:avLst/>
          </a:prstGeom>
          <a:ln cap="sq" w="7920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9840" y="588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73400" y="6040440"/>
            <a:ext cx="177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Find 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33"/>
                </a:solidFill>
                <a:latin typeface="Tahoma"/>
              </a:rPr>
              <a:t>But in our text books!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33"/>
                </a:solidFill>
                <a:latin typeface="Tahoma"/>
              </a:rPr>
              <a:t>    </a:t>
            </a:r>
            <a:r>
              <a:rPr b="0" lang="en-US" sz="6600" spc="-1" strike="noStrike">
                <a:solidFill>
                  <a:srgbClr val="ccff33"/>
                </a:solidFill>
                <a:latin typeface="Tahoma"/>
              </a:rPr>
              <a:t>Thank you</a:t>
            </a:r>
            <a:endParaRPr b="0" lang="en-US" sz="6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20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Symphony"/>
              </a:rPr>
              <a:t>Some definitions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6320" y="10663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review is any attempt to </a:t>
            </a: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synthesize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the results and conclusions of two or more publications on a given topic.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fill="hold"/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Symphony"/>
              </a:rPr>
              <a:t>Some definitions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6680" y="10663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Systematic review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is a review which aims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comprehensivel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to identify and synthesize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all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literature on a given topic. A systematic review must state clearly how all relevant studies were identified,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valuated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nd synthesized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eta-analysis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:a systematic review which permits the statistical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pooling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of results across tria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9898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Symphony"/>
              </a:rPr>
              <a:t>Is it a systematic review? does it:</a:t>
            </a:r>
            <a:endParaRPr b="0" lang="en-US" sz="28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Define  a four part (answerable) clinical question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Combine  Randomized Controlled Trials (RCT’s)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Describe  PRE-DEFINED search methods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PRE-DEFINED inclusion criteria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PRE-DEFINED methodological exclusion criteria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Symphony"/>
              </a:rPr>
              <a:t>Evidence-based approach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Systematic and comprehensive search for the evidenc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How good is the evidence?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What are the benefits and/or adverse things that are associated with the choices?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Symphony"/>
              </a:rPr>
              <a:t>Traditional review articles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-812880">
              <a:spcBef>
                <a:spcPts val="700"/>
              </a:spcBef>
              <a:buClr>
                <a:srgbClr val="66ffff"/>
              </a:buClr>
              <a:buSzPct val="7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Lack a scientific metho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I. Only look at published resear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523880" indent="-6094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Book Antiqua"/>
              </a:rPr>
              <a:t>publication favours research which demonstrates “statistically significant” differences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lvl="2" marL="1523880" indent="-6094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Book Antiqua"/>
              </a:rPr>
              <a:t>publication bias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Symphony"/>
              </a:rPr>
              <a:t>Traditional review articles 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5800" y="1263600"/>
            <a:ext cx="8312400" cy="36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II. Are subjective and uncritic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314360" indent="-22860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Book Antiqua"/>
              </a:rPr>
              <a:t>any review must systematically appraise the methodological quality of the primary research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V. Are unreplicabl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314360" indent="-22860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Book Antiqua"/>
              </a:rPr>
              <a:t>no way to assess how the reviewers reached their conclusions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lvl="2" marL="13143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lvl="2" marL="13143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"/>
          <p:cNvSpPr/>
          <p:nvPr/>
        </p:nvSpPr>
        <p:spPr>
          <a:xfrm>
            <a:off x="2790000" y="4997520"/>
            <a:ext cx="405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Results?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Symphony"/>
              </a:rPr>
              <a:t>Result….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Delay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in implementation of research findings (thrombolytics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Implementation of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harmfu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or ineffective treatments (antiarrhythmics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Ineffective use of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resources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(albumin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0:57:18Z</dcterms:created>
  <dc:creator>Akbar Soltani, M.D.</dc:creator>
  <dc:description/>
  <cp:keywords/>
  <dc:language>en-US</dc:language>
  <cp:lastModifiedBy>HR</cp:lastModifiedBy>
  <cp:lastPrinted>2000-10-19T15:44:26Z</cp:lastPrinted>
  <dcterms:modified xsi:type="dcterms:W3CDTF">2007-04-20T06:00:58Z</dcterms:modified>
  <cp:revision>541</cp:revision>
  <dc:subject/>
  <dc:title>APPROACH TO NEW DRU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80455965</vt:r8>
  </property>
  <property fmtid="{D5CDD505-2E9C-101B-9397-08002B2CF9AE}" pid="3" name="_AuthorEmail">
    <vt:lpwstr>ryan@mid-hudson.com</vt:lpwstr>
  </property>
  <property fmtid="{D5CDD505-2E9C-101B-9397-08002B2CF9AE}" pid="4" name="_AuthorEmailDisplayName">
    <vt:lpwstr>Ryan Osswald</vt:lpwstr>
  </property>
  <property fmtid="{D5CDD505-2E9C-101B-9397-08002B2CF9AE}" pid="5" name="_EmailSubject">
    <vt:lpwstr>Dr. Rush's Power Point</vt:lpwstr>
  </property>
  <property fmtid="{D5CDD505-2E9C-101B-9397-08002B2CF9AE}" pid="6" name="_ReviewingToolsShownOnce">
    <vt:lpwstr/>
  </property>
</Properties>
</file>