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723C-32AD-468D-9826-0CCFBA6E8C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quote: Smith R: Where is the wisdom...? The poverty of medical evidence. BMJ 1991;303:798-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qu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of Technology Assessment of the Congress of the United States: Assessing the Efficacy and Safety of Medical Technologies. Washington, D.C.: US Government Printing Office, 197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of Technology Assessment of the Congress of the United States: The Impact of Randomized Clinical; Trials on Health Policy and Medical Practice. Washington, D.C.: US Government Printing Office, 19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son JW, Goldschmidt PG, Jillson IA: Medical Practice Information Demonstration Project: Final Report. Office of the Assistant Secretary of Health, Department of Health Education and Welfare Contract #282-77-0068GS. Baltimore, Maryland. Policy Research Inc 197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binsky M, Ferguson JH: Analysis of the National Institutes of Health Medicare Coverage Assessment. Internat J Technology Assessment in Health Care 1990;6:48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488-8F9F-402E-BB8E-F1A7E924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265-9C50-44A5-A002-F793C826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61C-B08B-421A-A244-40C99765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F24-573D-48CF-A3FB-0EE30D1F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D9E-337E-4730-88F4-3C53256F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1DE5-60C6-4A0F-AD58-B52597F3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B7B-3D1A-454E-91F3-4E63D1B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4E05-9F74-411C-B3AF-B8BFC76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DA7-F036-4C7A-885B-BF9244E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10C4-7812-4109-8C59-F694CDDA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8CC-C659-453B-A0C8-B8F6530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B1C-12D5-4136-9E4D-BB8A0C39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3ACA-F1AA-410B-A5DC-CEE6351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C7E5-94DF-4ABF-98DE-EC25290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A358-5553-4589-9D62-C40EF145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5223-D79F-4853-916D-FCB94B47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A153-122B-4057-98E9-0C68EC46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333-8AEC-4847-B4CB-3D1C9DD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D73-C3C2-4DC1-8009-EB6B510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7F1-79B2-44CC-8895-418FB4A9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E24-D238-4F37-9E19-1ADDE78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0C5-D24E-4387-8BD0-DE0F61F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7D9-2FE6-4EF1-8E5C-128C0DC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0A0-7591-4393-8D54-434DFE44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61E0-C33F-45A4-88A1-A5C86EFFFD45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17F-0D16-441E-A593-7DB1111A30EC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hat is grade of recommendation’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e extent to which one can be confident that a suggested 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action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will do more 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good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than ha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ade is matched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irectl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level of evidence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001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rading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e157"/>
                </a:solidFill>
                <a:latin typeface="Arial"/>
              </a:rPr>
              <a:t>High-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mediate-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Low-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ufficient-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Well done R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si-R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Well done 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ant cell arteriti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eroids ,immediately ,at doses of at least 20 mg ,dail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eroids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mmediately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t doses of at least 20 mg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daily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4320" y="45684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hat Proportion of Healthcare is Evidence-Based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305560" cy="29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MJ Editorial: about 15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rchie Cochrane: less than 10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IH : Diagnostic technology 21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958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Cochrane 1976; White 197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EVIDENCE ?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170000"/>
            <a:ext cx="81536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MRI Vs CT for pituitary tum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creening BMD and fra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reatment of oste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Fluoride and osteopo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HRT and life expect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and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ub-clinical hypothyroidism an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Strength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trength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of Evidenc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ized trials, are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idenc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ength of evidence from an otherwise systematic overview of randomized trials will, however, depend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sist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results from study to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996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ength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of Evidenc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sign-title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tailed design (blinding, allocation concealment, ITT)-tit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vels of Evidence and Strength of Recommend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5084640"/>
            <a:ext cx="6400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CONSISTENC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Heterogeneit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istency of Result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 simple rule of thumb, results can be considered "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onsist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 if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ir CIs overl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is does not occur, there can be 2 cases: The results can be either "inconsistent" or "widely variable.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consist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s are inconsistent if 1 or more studies show the treatment to be more effective than the alternative, while 1 or more studies show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uch cases the treatment must be considered </a:t>
            </a:r>
            <a:r>
              <a:rPr b="0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investigation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ntil the causes for the inconsistency are underst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ary widel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can vary widely if the results of at least 2 studies are so far apart that their CIs d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ot overla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occurrence of widely varying results indicates that there are ot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known fac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ffect the outcomes of the treat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estimates from the individual studies ar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rec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owever, an apparent large difference may be due to the play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Arial Black"/>
              </a:rPr>
              <a:t>consistency of resul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consistency bears on the strength of treatment recommendations, it must be both clinically important and statistically significant (p &lt;0.0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5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  <a:ea typeface="Arial"/>
              </a:rPr>
              <a:t>Consistency-practical poi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19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) the difference in the estimate of relative risk reduction between the two most disparate studies is greater than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20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xam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elative risk reduction of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4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% in one study and less than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% in an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5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  <a:ea typeface="Arial"/>
              </a:rPr>
              <a:t>Consistency-practical poi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19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) the difference between the boundaries of the confidence intervals between the two most disparate studies is greater than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5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lower boundary in first study i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and the upper boundary of the confidence interval in the second study is less than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ades of Recommendations for a Specified Level of Baseline Risk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1RCTs, no heterogeneity, CIs all o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ne si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2RCTs, no heterogeneity, C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verl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1RCTs, heterogeneity, CIs all on one side of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2RCTs, heterogeneity, CIs overlap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1Observational studies, CIs all on one side of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2Observational studies, CIs overlap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istency of Resul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ssential idea is to ask whether the most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essimis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 of a benefit is still sufficient to choose the treatment, and a worst case assumption about a risk would not be cause to reject the treat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RISK BENEFIT TRADE OFF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isk/Benefit Trade off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decision about initiating a preventive or therapeutic regimen represents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rade-of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patient or publ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n the one hand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xi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ost, and administrative burden to patients and providers, on the o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-270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4869000"/>
            <a:ext cx="8893080" cy="172872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80360" y="2997360"/>
            <a:ext cx="914400" cy="9144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292880" y="3645000"/>
            <a:ext cx="914400" cy="877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34-1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Risk/Benefit Trade of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438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1576440"/>
            <a:ext cx="9067680" cy="55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10% of FDA approved have serious side effects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en-US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le of thre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ability of event not occurring = 1-risk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ability of event not occurring in  </a:t>
            </a:r>
            <a:r>
              <a:rPr b="1" i="1" lang="en-US" sz="2700" spc="-1" strike="noStrike">
                <a:solidFill>
                  <a:srgbClr val="1fffff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tient = (1-risk )^ 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- maxrisk ) ^ n = 0.05                   1- maxrisk =(0.05)^(1/n)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&gt;30               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-maxrisk = 1-3/n     maxrisk = 3/n  ; n &gt; 3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onfident of adverse event  = 0/n – 3/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587700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isk/benefit  tradeoff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A after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Meta-analysis of high quality R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lear positive treatment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Unequivocal recommendations to  treat uniform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PA Vs S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ery large single R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lear positive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Uncertainty whether  to treat, varying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CH, cost/ judgment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DIRECTNES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irect Evidenc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idence is said to be "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irec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 if both the use of the treatment and the occurrence of the outcomes are observed in the same stu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Example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CT of a cholesterol-lowering drug in which both the use of the drug and the health outcomes are observed in the same popul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US Preventive Servic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ength of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 evidence for consi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ir evidence for consi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ufficient evidence to recomm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ir evidence for exclu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 evidence for exclu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Relevance of eviden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usefulness of the evidence in clinical practice, particularly the appropriateness of the outcome measures us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ypes of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urrogat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linic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atient releva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612720"/>
          <a:ext cx="8991720" cy="5788080"/>
        </p:xfrm>
        <a:graphic>
          <a:graphicData uri="http://schemas.openxmlformats.org/drawingml/2006/table">
            <a:tbl>
              <a:tblPr/>
              <a:tblGrid>
                <a:gridCol w="2013120"/>
                <a:gridCol w="2403360"/>
                <a:gridCol w="2249640"/>
                <a:gridCol w="2325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Surrog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Cli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atient-rele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Cardiovas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ood press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roke, myocar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arction, survi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inical outcomes, Q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HIV/A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4 T lymphocy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u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IDs event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rvi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rvival, QoL, adverse eff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Fra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one min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n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one fra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mptomatic fracture, functional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Coronary he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ood cholest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v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ocar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arction, survi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ocardial infarction survival, symptoms (angina), QoL, 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Otitis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crobiolog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e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inical c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afness, side effects (eg GI sympt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50840" y="10666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9880" y="6094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Out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360" y="1557360"/>
            <a:ext cx="9144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365720"/>
            <a:ext cx="914400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urrogate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aboratory measurement or a physical sign used a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substit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linically meaningful end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hat measures directly how a patient feels, functions or survi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duced by a therapy o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urro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ndpoint should be expected to reflec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changes in a clinically meaningful end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linical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comes that tend to be defined on the basis of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ing stud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rvival in canc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currence of vertebral fractures in treatments for 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lcer h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lking distance or microbiological ‘cure’ in the treatment of inf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Patient relevant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comes tha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a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the patient and their careers. They need to be outcomes that patients can experience and that they care about (eg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quality of life, return to normal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ent relevant outcomes may also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linical outcom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surrogate outcomes that are good predictors (in a causal sense) of outcomes that matter to the patient and their car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37160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xamples of Hypothetical DOE and POEM stud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744480" y="1905120"/>
            <a:ext cx="7518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7280" y="2363760"/>
            <a:ext cx="268452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lowers choleste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2287440"/>
            <a:ext cx="2895480" cy="6426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Drug A lowers cardiovascular mort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0"/>
            <a:ext cx="27432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decreases overall mort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7280" y="3354480"/>
            <a:ext cx="262908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low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leste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10520" y="3162240"/>
            <a:ext cx="1855800" cy="11912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RT incr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rdiovascu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ort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4880" y="3284640"/>
            <a:ext cx="2094840" cy="916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do no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creases over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rtality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724280"/>
            <a:ext cx="2666880" cy="9169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 osteoblastic activi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952880"/>
            <a:ext cx="2819520" cy="3682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luoride increase B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0120" y="4938840"/>
            <a:ext cx="28116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Fx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440" y="1700280"/>
            <a:ext cx="9231120" cy="459720"/>
            <a:chOff x="19440" y="1700280"/>
            <a:chExt cx="9231120" cy="459720"/>
          </a:xfrm>
        </p:grpSpPr>
        <p:sp>
          <p:nvSpPr>
            <p:cNvPr id="262" name=""/>
            <p:cNvSpPr/>
            <p:nvPr/>
          </p:nvSpPr>
          <p:spPr>
            <a:xfrm>
              <a:off x="19440" y="1700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72360" y="1700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O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5720" y="1928880"/>
              <a:ext cx="7391520" cy="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708640" y="6013440"/>
            <a:ext cx="4498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thophysiologic reasoning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02840" y="4568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lassifying the relevance of the ev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patient-relevant clinical outcomes, including benefits and harms, and quality of life and survi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a surrogate outcome that has been shown to be predictive of patient-relevant outcomes for the same interv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proven surrogate outcomes but for a different interv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proven surrogate outcomes but for a different intervention an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confined to unproven surrogate out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PRECIS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steoporosis US Task For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suffici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vidence to recommend for or again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ut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creen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osteoporosis with bone densitometry in postmenopausal women. Recommendations against routine screening may be made on other ground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ample 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fect the CIs of the results-larger numbers of patients imply tighter CIs and more confidence that the "true" effect is close to the observed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ere is no absolut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criterion for how tight a CI must 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r 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f there is a disease that in the control group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formly fa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eatment group of, for example, 6 patients showing 2 survivors (for a survival rate of 33%) would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nically meaningfu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though the range of uncertainty around tha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is huge (the 95% CI is from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7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nvers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f a new treatment is trying to increase survival of a disease from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with the old treatment,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, then the CI would have to be within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monstrate the differ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require a total sample size of abou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4 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ople (to achieve a power of 0.8 at P=.0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, the required tightness of the CI, and therefore the sample size, depends 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w big the effect must be to be clinically meaningful in comparison with the alternative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portance of the outc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also affect the required size of a study; we ca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olerate more uncertain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a treatment's effect if the outcome is relief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if i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rta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 of bypass surge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9900"/>
                </a:solidFill>
                <a:latin typeface="Arial"/>
              </a:rPr>
              <a:t>Quantity of evid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Quantity of Evidenc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458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ule of thumb is that there should be ei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at leas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 independ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udies (eg, not from the same institution or from investigators who have a professional relationship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at leas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 multi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udy that reports data separately from each c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e RCT &gt; 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30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ss effec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ext session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efini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grade recommend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recomme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One size fit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xpect uniform clinical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Expect action to 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ideal grading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and separate considerations of two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-methodological quality of evidence (likelihood of b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-trade-off between benefits and risk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c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trong or weak recommenda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ness of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ion of treatment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target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thera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s and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ighest lev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quality RCTs (randomised with concealment, double-blinded, complete follow-up, intention-to-treat analysis) gives us the least biased estimate of the effect of an interven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Hierarchy of study typ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 reviews and meta­analyses of randomised controlled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ised controlled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­randomised intervention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­experiment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t opinion (CME, Lectures, R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hat is ‘level of evidence’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The extent to which one can be confident that an </a:t>
            </a:r>
            <a:r>
              <a:rPr b="0" lang="en-GB" sz="4800" spc="-1" strike="noStrike">
                <a:solidFill>
                  <a:srgbClr val="ffcc00"/>
                </a:solidFill>
                <a:latin typeface="Arial"/>
              </a:rPr>
              <a:t>estimate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4800" spc="-1" strike="noStrike">
                <a:solidFill>
                  <a:srgbClr val="ff9900"/>
                </a:solidFill>
                <a:latin typeface="Arial"/>
              </a:rPr>
              <a:t>effect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or association is </a:t>
            </a:r>
            <a:r>
              <a:rPr b="0" lang="en-GB" sz="4800" spc="-1" strike="noStrike">
                <a:solidFill>
                  <a:srgbClr val="ffcc00"/>
                </a:solidFill>
                <a:latin typeface="Arial"/>
              </a:rPr>
              <a:t>correct (unbiased)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0:00Z</dcterms:created>
  <dc:creator> Dr.A.SOLTANI</dc:creator>
  <dc:description/>
  <dc:language>en-US</dc:language>
  <cp:lastModifiedBy>HR</cp:lastModifiedBy>
  <dcterms:modified xsi:type="dcterms:W3CDTF">2007-04-20T06:01:49Z</dcterms:modified>
  <cp:revision>153</cp:revision>
  <dc:subject/>
  <dc:title>GRADE OF RECCOMENDATION (1)</dc:title>
</cp:coreProperties>
</file>