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74B9-FF3E-45C0-8866-2343D5384E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up to date are w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doctors who volunteered to repeat the ABIM, when retested after being in practice for up to 15 years, their scores inversely correlate with year of med school grad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5B8-6520-4DDB-9C6E-9A1F50EA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85B-63A0-41A7-9905-453678F7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1A2-CF46-43C1-BB40-D049952C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3EF-27E7-4DDC-8BCD-20092D46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5A15D-0F9A-49C7-B0EF-4D5F7E5B0C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83973-7812-47F4-9631-89D0B7C960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D2A4D-9668-4E0B-BBED-5A43340B91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783FF-6908-403E-B343-8EA154E5FA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4CE8E-7955-4633-A262-B696C46369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ABC5D-92A1-425F-AD8A-2CBA3E7064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FB98A-9098-42D6-913D-E3AB27E075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6BB8-64C5-4E94-9E10-B2827A23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065F6-7E2C-4A69-9F76-AA7637E76F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DEC0E-06CF-480E-A967-1FA0DE61E5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BB053-E424-4CD0-8CB8-46DA055FD8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8CE2F-FC9B-4A23-8648-99A538B751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63835-2553-4A7F-93B3-ABB9549029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242-B2C5-4116-A4F7-29BBAC88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67D-6D18-4ADB-8A94-33003330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687-DDCA-425A-8783-90C8F3E2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300-8C4C-4699-AE59-CB650D63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DD7-E038-491B-9226-C8E8C294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7A2-8C12-4A23-A3F4-A3089C27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2A9-8A51-42DE-9E64-D5ABF681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c0c0c0"/>
                </a:solidFill>
                <a:latin typeface="Times New Roman"/>
              </a:rPr>
              <a:t>&lt;date/time&gt;</a:t>
            </a:r>
            <a:r>
              <a:rPr b="0" lang="da-DK" sz="1200" spc="-1" strike="noStrike">
                <a:solidFill>
                  <a:srgbClr val="c0c0c0"/>
                </a:solidFill>
                <a:latin typeface="Times New Roman"/>
              </a:rPr>
              <a:t>EBM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r>
              <a:rPr b="0" lang="da-DK" sz="1200" spc="-1" strike="noStrike">
                <a:solidFill>
                  <a:srgbClr val="c0c0c0"/>
                </a:solidFill>
                <a:latin typeface="Times New Roman"/>
              </a:rPr>
              <a:t>A.SOL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c0c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Times New Roman"/>
                <a:ea typeface="Times New Roman"/>
              </a:rPr>
              <a:t>T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9966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2516-11EC-4E98-8D83-90BCC5AA062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ltaniebm.com/" TargetMode="External"/><Relationship Id="rId2" Type="http://schemas.openxmlformats.org/officeDocument/2006/relationships/hyperlink" Target="http://www.ebm.ir/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Information Mastery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6840" y="60480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4581360"/>
            <a:ext cx="6400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kbar 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ltani. MD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MS, Endocri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hran University of Medical Sciences (TU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docrine and Metabolism Research Center (EMR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idence-Based Medicine Research Center (EBMR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iati Hospita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www.soltaniebm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www.ebm.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00"/>
                </a:solidFill>
                <a:latin typeface="Times New Roman"/>
              </a:rPr>
              <a:t>Information Mastery</a:t>
            </a:r>
            <a:endParaRPr b="0" lang="en-US" sz="7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31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l of us must develop effective and efficient ways of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dentifying,  evaluating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using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new informatio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0880" y="2286000"/>
            <a:ext cx="33530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Usefulness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038480" y="2895480"/>
            <a:ext cx="48006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________________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343400" y="2057400"/>
            <a:ext cx="21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levance 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552720" y="22096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22096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010280" y="213372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alidity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19920" y="3352680"/>
            <a:ext cx="923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rk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87280" y="4789440"/>
            <a:ext cx="856944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oal of information mast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o determine the information  source with the highest usefulness s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 Useful Equation!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1844640"/>
            <a:ext cx="2952720" cy="1079640"/>
          </a:xfrm>
          <a:prstGeom prst="ellipse">
            <a:avLst/>
          </a:prstGeom>
          <a:noFill/>
          <a:ln w="73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levan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ev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based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requen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we are exposed to the clinical question in our practice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evidence presen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re looking for patient-oriented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o find patient-oriented evidence, but we are truly seek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tient-oriented evidenc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at matt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PO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9960" y="6094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Information Mastery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(Relevancy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8478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tic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-oriented eviden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Matte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tality, morbidity, qualit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isease-oriented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ophysiology, pharmacology, et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371600"/>
            <a:ext cx="9144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amples of Hypothetical DOE and POEM studie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4480" y="1905120"/>
            <a:ext cx="751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7280" y="2363760"/>
            <a:ext cx="2684520" cy="642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rug A lowers cholest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287440"/>
            <a:ext cx="2895480" cy="6426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Drug A lowers cardiovascular 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2286000"/>
            <a:ext cx="274320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rug A decreases overall 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7280" y="3354480"/>
            <a:ext cx="2629080" cy="642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RT 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olest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10520" y="3162240"/>
            <a:ext cx="1855800" cy="119124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HRT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ardiova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4880" y="3284640"/>
            <a:ext cx="2094840" cy="9169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RT do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creases over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rtality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4724280"/>
            <a:ext cx="2666880" cy="9169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luoride increase  osteoblastic activi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4952880"/>
            <a:ext cx="2819520" cy="3682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luoride increase B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80120" y="4938840"/>
            <a:ext cx="281160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luoride increase Fx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440" y="1700280"/>
            <a:ext cx="9231120" cy="459720"/>
            <a:chOff x="19440" y="1700280"/>
            <a:chExt cx="9231120" cy="459720"/>
          </a:xfrm>
        </p:grpSpPr>
        <p:sp>
          <p:nvSpPr>
            <p:cNvPr id="145" name=""/>
            <p:cNvSpPr/>
            <p:nvPr/>
          </p:nvSpPr>
          <p:spPr>
            <a:xfrm>
              <a:off x="19440" y="170028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O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72360" y="170028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PO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5720" y="1928880"/>
              <a:ext cx="7391520" cy="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471840" y="6040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580536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hophysiologic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7524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0920" y="745920"/>
            <a:ext cx="6588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nformation Maste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743200"/>
          <a:ext cx="7883640" cy="2666880"/>
        </p:xfrm>
        <a:graphic>
          <a:graphicData uri="http://schemas.openxmlformats.org/drawingml/2006/table">
            <a:tbl>
              <a:tblPr/>
              <a:tblGrid>
                <a:gridCol w="2149560"/>
                <a:gridCol w="3430440"/>
                <a:gridCol w="230364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Thes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nge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N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d if you have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thl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276720" y="3733920"/>
            <a:ext cx="2590560" cy="6094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16360" y="4648320"/>
            <a:ext cx="3240000" cy="7617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3733920"/>
            <a:ext cx="2057400" cy="6094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4572000"/>
            <a:ext cx="2057400" cy="6094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7524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40920" y="745920"/>
            <a:ext cx="6588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nformation Maste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2743200"/>
          <a:ext cx="7883640" cy="2722680"/>
        </p:xfrm>
        <a:graphic>
          <a:graphicData uri="http://schemas.openxmlformats.org/drawingml/2006/table">
            <a:tbl>
              <a:tblPr/>
              <a:tblGrid>
                <a:gridCol w="2149560"/>
                <a:gridCol w="3430440"/>
                <a:gridCol w="2303640"/>
              </a:tblGrid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8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ad Thes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nge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N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d if you have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thl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987640" y="4581360"/>
            <a:ext cx="3168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373392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45720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7524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0920" y="745920"/>
            <a:ext cx="6588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nformation Maste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5800" y="2708280"/>
          <a:ext cx="7883640" cy="2757600"/>
        </p:xfrm>
        <a:graphic>
          <a:graphicData uri="http://schemas.openxmlformats.org/drawingml/2006/table">
            <a:tbl>
              <a:tblPr/>
              <a:tblGrid>
                <a:gridCol w="2149560"/>
                <a:gridCol w="3430440"/>
                <a:gridCol w="2303640"/>
              </a:tblGrid>
              <a:tr h="92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8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ad Thes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nge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N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d if you have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orthl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2987640" y="4572000"/>
            <a:ext cx="3168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373392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7524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40920" y="745920"/>
            <a:ext cx="6588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nformation Maste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" y="2743200"/>
          <a:ext cx="7883640" cy="2722680"/>
        </p:xfrm>
        <a:graphic>
          <a:graphicData uri="http://schemas.openxmlformats.org/drawingml/2006/table">
            <a:tbl>
              <a:tblPr/>
              <a:tblGrid>
                <a:gridCol w="2149560"/>
                <a:gridCol w="3430440"/>
                <a:gridCol w="2303640"/>
              </a:tblGrid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8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ad Thes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nge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N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ad if you have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orthl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400800" y="373392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7524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0920" y="745920"/>
            <a:ext cx="6588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nformation Maste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2743200"/>
          <a:ext cx="7883640" cy="2722680"/>
        </p:xfrm>
        <a:graphic>
          <a:graphicData uri="http://schemas.openxmlformats.org/drawingml/2006/table">
            <a:tbl>
              <a:tblPr/>
              <a:tblGrid>
                <a:gridCol w="2149560"/>
                <a:gridCol w="3430440"/>
                <a:gridCol w="2303640"/>
              </a:tblGrid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8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ad Thes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ange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N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ad if you have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orthl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296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health care profes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39120" y="1676520"/>
            <a:ext cx="1042920" cy="1676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052720" y="1600200"/>
            <a:ext cx="3591000" cy="2533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1752840" cy="2246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51760" y="5276880"/>
            <a:ext cx="17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n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4114800"/>
            <a:ext cx="28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videnc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1440" y="3219480"/>
            <a:ext cx="187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865920" y="4556160"/>
            <a:ext cx="1357200" cy="137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74400" y="581040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vidence Ign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nformation Maste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8640" y="2261880"/>
            <a:ext cx="841536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x month survey of 90 journals, which identified 8047 articles and only 213 POE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97% of medical literature DO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ou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.6%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f medical literature is PO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rogates end points (DOEs)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447560"/>
            <a:ext cx="8599320" cy="38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2320" indent="-2023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nical Endpoi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  characteristic or variable to measure how a patient feels, functions or surv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urrogate Endpoi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  test, measure or indicator sufficiently documented to represent a true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linically meaningfu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utcom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s the basis for approv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9960" y="6094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Information Mastery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(Relevancy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18478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tic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-oriented eviden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Matte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tality, morbidity, qualit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isease-oriented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ophysiology, pharmacology, et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0880" y="2286000"/>
            <a:ext cx="33530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Usefulness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038480" y="2895480"/>
            <a:ext cx="48006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________________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43400" y="2057400"/>
            <a:ext cx="21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levance 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552720" y="22096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22096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010280" y="213372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alidity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19920" y="3352680"/>
            <a:ext cx="923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rk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43640" y="1844640"/>
            <a:ext cx="2592360" cy="1079640"/>
          </a:xfrm>
          <a:prstGeom prst="ellipse">
            <a:avLst/>
          </a:prstGeom>
          <a:noFill/>
          <a:ln w="73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858920" y="475920"/>
            <a:ext cx="3025800" cy="1368360"/>
          </a:xfrm>
          <a:prstGeom prst="line">
            <a:avLst/>
          </a:prstGeom>
          <a:ln w="604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69080" y="233280"/>
            <a:ext cx="3183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ritical apprai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Validity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 th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ardes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part of  information maste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what extent the knowledge gained as a result represents the “truth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ll-designed clinical trials t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inimize bia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re more likely to provide valid conclu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971640" y="152280"/>
          <a:ext cx="784836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2280"/>
                    <a:ext cx="784836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2170080" y="3352680"/>
            <a:ext cx="6440400" cy="3060720"/>
            <a:chOff x="2170080" y="3352680"/>
            <a:chExt cx="6440400" cy="3060720"/>
          </a:xfrm>
        </p:grpSpPr>
        <p:graphicFrame>
          <p:nvGraphicFramePr>
            <p:cNvPr id="196" name=""/>
            <p:cNvGraphicFramePr/>
            <p:nvPr/>
          </p:nvGraphicFramePr>
          <p:xfrm>
            <a:off x="2170080" y="4498920"/>
            <a:ext cx="6440400" cy="1914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70080" y="4498920"/>
                      <a:ext cx="6440400" cy="19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6019920" y="4800600"/>
              <a:ext cx="25146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84480" y="5105520"/>
              <a:ext cx="64008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97080" y="5423040"/>
              <a:ext cx="64008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84480" y="5753160"/>
              <a:ext cx="64008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97080" y="6045120"/>
              <a:ext cx="64008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84480" y="6362640"/>
              <a:ext cx="6858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10800000">
              <a:off x="2437920" y="3352680"/>
              <a:ext cx="2210040" cy="533520"/>
            </a:xfrm>
            <a:prstGeom prst="wedgeRectCallout">
              <a:avLst>
                <a:gd name="adj1" fmla="val -111208"/>
                <a:gd name="adj2" fmla="val 188986"/>
              </a:avLst>
            </a:prstGeom>
            <a:solidFill>
              <a:srgbClr val="808080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Hypothesi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019920" y="2884320"/>
            <a:ext cx="2286000" cy="1381680"/>
          </a:xfrm>
          <a:prstGeom prst="rect">
            <a:avLst/>
          </a:prstGeom>
          <a:solidFill>
            <a:srgbClr val="3333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Sample size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N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50760" y="119160"/>
          <a:ext cx="906768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0" y="119160"/>
                    <a:ext cx="906768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324480" y="838080"/>
            <a:ext cx="2667240" cy="365760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569960" y="4800600"/>
            <a:ext cx="6583320" cy="1733400"/>
            <a:chOff x="1569960" y="4800600"/>
            <a:chExt cx="6583320" cy="1733400"/>
          </a:xfrm>
        </p:grpSpPr>
        <p:graphicFrame>
          <p:nvGraphicFramePr>
            <p:cNvPr id="210" name=""/>
            <p:cNvGraphicFramePr/>
            <p:nvPr/>
          </p:nvGraphicFramePr>
          <p:xfrm>
            <a:off x="1569960" y="4800600"/>
            <a:ext cx="6583320" cy="173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69960" y="4800600"/>
                      <a:ext cx="658332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5867280" y="5664240"/>
              <a:ext cx="20574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629080" y="1130400"/>
            <a:ext cx="3581280" cy="38088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22960" y="1778040"/>
            <a:ext cx="533520" cy="342720"/>
          </a:xfrm>
          <a:prstGeom prst="rightArrow">
            <a:avLst>
              <a:gd name="adj1" fmla="val 50000"/>
              <a:gd name="adj2" fmla="val 38918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751760" y="2743200"/>
            <a:ext cx="4038840" cy="2590920"/>
          </a:xfrm>
          <a:prstGeom prst="cloudCallout">
            <a:avLst>
              <a:gd name="adj1" fmla="val -56018"/>
              <a:gd name="adj2" fmla="val 52263"/>
            </a:avLst>
          </a:prstGeom>
          <a:solidFill>
            <a:srgbClr val="66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Failure to detect a dif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Equival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50760" y="119160"/>
          <a:ext cx="906768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0" y="119160"/>
                    <a:ext cx="906768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6324480" y="838080"/>
            <a:ext cx="2667240" cy="365760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569960" y="4800600"/>
            <a:ext cx="6583320" cy="1733400"/>
            <a:chOff x="1569960" y="4800600"/>
            <a:chExt cx="6583320" cy="1733400"/>
          </a:xfrm>
        </p:grpSpPr>
        <p:graphicFrame>
          <p:nvGraphicFramePr>
            <p:cNvPr id="220" name=""/>
            <p:cNvGraphicFramePr/>
            <p:nvPr/>
          </p:nvGraphicFramePr>
          <p:xfrm>
            <a:off x="1569960" y="4800600"/>
            <a:ext cx="6583320" cy="173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69960" y="4800600"/>
                      <a:ext cx="6583320" cy="1733400"/>
                    </a:xfrm>
                    <a:prstGeom prst="rect">
                      <a:avLst/>
                    </a:prstGeom>
                    <a:ln cap="sq" w="12600">
                      <a:solidFill>
                        <a:srgbClr val="808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5867280" y="5664240"/>
              <a:ext cx="205740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629080" y="1130400"/>
            <a:ext cx="3581280" cy="38088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2960" y="1778040"/>
            <a:ext cx="533520" cy="342720"/>
          </a:xfrm>
          <a:prstGeom prst="rightArrow">
            <a:avLst>
              <a:gd name="adj1" fmla="val 50000"/>
              <a:gd name="adj2" fmla="val 38918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523160" y="4190400"/>
            <a:ext cx="4038840" cy="1600200"/>
          </a:xfrm>
          <a:prstGeom prst="wedgeRectCallout">
            <a:avLst>
              <a:gd name="adj1" fmla="val -90370"/>
              <a:gd name="adj2" fmla="val 183726"/>
            </a:avLst>
          </a:prstGeom>
          <a:solidFill>
            <a:srgbClr val="cc00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ssume non-inferiority if the lower limit of 95% CI is less than –5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N=904 per grou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0880" y="2286000"/>
            <a:ext cx="33530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Usefulness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038480" y="2895480"/>
            <a:ext cx="48006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________________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343400" y="2057400"/>
            <a:ext cx="21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levance 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552720" y="22096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53080" y="22096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010280" y="213372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alidity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19920" y="3352680"/>
            <a:ext cx="923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rk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43640" y="1844640"/>
            <a:ext cx="2592360" cy="1079640"/>
          </a:xfrm>
          <a:prstGeom prst="ellipse">
            <a:avLst/>
          </a:prstGeom>
          <a:noFill/>
          <a:ln w="73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858920" y="475920"/>
            <a:ext cx="3025800" cy="1368360"/>
          </a:xfrm>
          <a:prstGeom prst="line">
            <a:avLst/>
          </a:prstGeom>
          <a:ln w="604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92720" y="3213000"/>
            <a:ext cx="2592360" cy="1079640"/>
          </a:xfrm>
          <a:prstGeom prst="ellipse">
            <a:avLst/>
          </a:prstGeom>
          <a:noFill/>
          <a:ln w="73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5052960"/>
            <a:ext cx="2722680" cy="825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SEA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347640" y="3933720"/>
            <a:ext cx="2089080" cy="1079640"/>
          </a:xfrm>
          <a:prstGeom prst="line">
            <a:avLst/>
          </a:prstGeom>
          <a:ln w="604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9080" y="233280"/>
            <a:ext cx="3183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ritical apprai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79280" y="536400"/>
          <a:ext cx="8893440" cy="5413320"/>
        </p:xfrm>
        <a:graphic>
          <a:graphicData uri="http://schemas.openxmlformats.org/drawingml/2006/table">
            <a:tbl>
              <a:tblPr/>
              <a:tblGrid>
                <a:gridCol w="2952720"/>
                <a:gridCol w="1440000"/>
                <a:gridCol w="1584360"/>
                <a:gridCol w="1120680"/>
                <a:gridCol w="1795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nformation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elev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ali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seful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ystematic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Evidence-Based Jour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to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-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-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Text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E lec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rug represent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Mass 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179280" y="2637000"/>
            <a:ext cx="8893440" cy="33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4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6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45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need and sour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mast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nt expe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BM in developing count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179280" y="536400"/>
          <a:ext cx="8893440" cy="5413320"/>
        </p:xfrm>
        <a:graphic>
          <a:graphicData uri="http://schemas.openxmlformats.org/drawingml/2006/table">
            <a:tbl>
              <a:tblPr/>
              <a:tblGrid>
                <a:gridCol w="2952720"/>
                <a:gridCol w="1440000"/>
                <a:gridCol w="1584360"/>
                <a:gridCol w="1120680"/>
                <a:gridCol w="1795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nformation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elev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ali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seful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ystematic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Evidence-Based Jour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to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-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-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Text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E lec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rug represent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Mass 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179280" y="4653000"/>
            <a:ext cx="889344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79280" y="536400"/>
          <a:ext cx="8893440" cy="5413320"/>
        </p:xfrm>
        <a:graphic>
          <a:graphicData uri="http://schemas.openxmlformats.org/drawingml/2006/table">
            <a:tbl>
              <a:tblPr/>
              <a:tblGrid>
                <a:gridCol w="2952720"/>
                <a:gridCol w="1440000"/>
                <a:gridCol w="1584360"/>
                <a:gridCol w="1120680"/>
                <a:gridCol w="1795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nformation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elev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ali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seful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ystematic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Evidence-Based Jour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to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-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-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Text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E lec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rug represent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Mass 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4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6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45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need and sour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mast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ent expe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BM in developing count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206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Content exper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Information maste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ntent expert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often turn to someone with greater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experienc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knowledg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n a particular area when we have a question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ntent expert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tent exper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experienced in the management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specific ca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especially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1)POEMs are not availabl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2) when we need a quick answ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ntent expert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60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We must be cautious, however, because </a:t>
            </a: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eneralizing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advice , especially based on </a:t>
            </a: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OEs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ontent experts may be unable or unwilling to look beyond </a:t>
            </a: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OE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Information from a content expert tends to be quite </a:t>
            </a: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ubjective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, however; even in narrowly </a:t>
            </a: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focused specialties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w Well Do We Care for Our Patients?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81518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mmendations  of experts are highly correlated with their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ypertension knowledge inversely correlates with graduation year (Sackett DL. Can med assoc Jnl 1984;130:719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ntent expert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ariability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has shown that not only is it difficult to get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oup of exper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gree on the interpretation of  data,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t is also difficult to get experts to agree with themselves instead of evide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variation.jpg (43812 bytes)"/>
          <p:cNvPicPr/>
          <p:nvPr/>
        </p:nvPicPr>
        <p:blipFill>
          <a:blip r:embed="rId1"/>
          <a:stretch/>
        </p:blipFill>
        <p:spPr>
          <a:xfrm>
            <a:off x="762120" y="137160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228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Variation in curr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e really need inform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4720" y="1546200"/>
            <a:ext cx="863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need i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wic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or every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3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tpatients and 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imes for 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pati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estions  are most likely to be abou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 of the questions generated in consultations go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answered: ti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19600" spc="-1" strike="noStrike">
                <a:solidFill>
                  <a:srgbClr val="00ffff"/>
                </a:solidFill>
                <a:latin typeface="Times New Roman"/>
              </a:rPr>
              <a:t>BUT!</a:t>
            </a:r>
            <a:endParaRPr b="0" lang="en-US" sz="1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master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17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one  who has a deep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derstand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informa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are able to give an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bjectiv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ssessment of the quality of information, unencumbered by th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ia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experience and train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masters recommend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master consid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E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even when this evidenc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flicts with DO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ccepted  dogma, or their own anecdot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 POEMs are not available, they use the best availabl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Es (standard surrogates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mbined with clinical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eri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master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88720" y="1981080"/>
            <a:ext cx="867564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Language of speaking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 answer the questions; how many times do you refer to studies instead of pathophysiologic reaso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ff"/>
                </a:solidFill>
                <a:latin typeface="Times New Roman"/>
              </a:rPr>
              <a:t>It’s what we’ve always done!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2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Self evaluation</a:t>
            </a:r>
            <a:endParaRPr b="0" lang="en-US" sz="6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URISTICS AND BIASES AND CAUSA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ARCH STRATEGIES (SEN,SP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APPRAISED RESOURCES,EBM RESOUR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ANDARD CRITICAL APPRAISAL? THERAPY, DIAGNOS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NT, ARR, RR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Self evaluation</a:t>
            </a:r>
            <a:endParaRPr b="0" lang="en-US" sz="6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D ON WHICH STUDIES: COHORT, CASE S,OR … WE MAY RECOMMEND INTERVENTIONS?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level of evide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SURROGATES ARE  STANDARD FOR YOUR SPECIALTY ?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DL, BP, BMD, HBA1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GROUP ANALYSIS,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Reference based medicine?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rst, idea  second, referenc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mbiguous ques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o search strateg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o critical appraisa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mperfect  evalu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idence Based Medicin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.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idence based medicine is rooted i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ve link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dea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rst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linical decisions should be based o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est available scientific evid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linical proble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rather than habits or protocols - should determine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ype of evid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be sought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ird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dentifying the best evidence means using epidemiological and biostatistical way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nk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urth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onclusions derived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ntifying and critically appraising evid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useful only if put into action in managing patients or making health care decisions; and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nal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erformance should be constant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4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6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45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need and sour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esting 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mast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nt expe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BM in developing count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e really need inform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720" y="1546200"/>
            <a:ext cx="863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Times New Roman"/>
              </a:rPr>
              <a:t>Approximately </a:t>
            </a:r>
            <a:r>
              <a:rPr b="0" lang="en-US" sz="4000" spc="-1" strike="noStrike">
                <a:solidFill>
                  <a:srgbClr val="ffff00"/>
                </a:solidFill>
                <a:latin typeface="Georgia"/>
                <a:ea typeface="Times New Roman"/>
              </a:rPr>
              <a:t>one third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Times New Roman"/>
              </a:rPr>
              <a:t> of the answers would have had a direct impact on patient c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ctors are most likely to seek answers to their questions from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ther doctors, textbooks,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me Problems in Developing Countri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formation is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disorganize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,  and  not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earchab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s it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valid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esearch for what?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ome Problems in Developing Countries</a:t>
            </a:r>
            <a:endParaRPr b="0" lang="en-US" sz="40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ancia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sourc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re limit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umber of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ystematic review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 practice guidelines are limited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sseminatin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 findings of systematic reviews to policymakers, health professionals, and consumers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ef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me Problems in Developing Countri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2720" y="134136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nicians  and public health professionals are trained in programmes that incorporate traditional models of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stern medical education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stern bia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lying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evid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ome Problems in Developing Countries</a:t>
            </a:r>
            <a:endParaRPr b="0" lang="en-US" sz="40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nicians in many developing countries believe that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ientific understand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essential to designing rational treatmen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BM is a threat to th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eedom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ome Problems in Developing Countries</a:t>
            </a:r>
            <a:endParaRPr b="0" lang="en-US" sz="32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1280" y="1197000"/>
            <a:ext cx="8893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Ultimately it is the </a:t>
            </a: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medical profession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that is the main constraint on </a:t>
            </a: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change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One reason is that in many developing countries, </a:t>
            </a: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ownership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of equipment or hospital facilities by doctors is </a:t>
            </a: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allowed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, or even encouraged, by medical societies and training institutions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This creates conflicts of interest, which may explain the overuse of many diagnostic tests.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36720" y="-114480"/>
            <a:ext cx="694836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Evidence based jo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908000" y="1219320"/>
            <a:ext cx="4648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80" y="1181160"/>
            <a:ext cx="294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ss0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Things I belie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80" y="1773360"/>
            <a:ext cx="617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ss0a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Things I believe despite the availabl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20" y="2316240"/>
            <a:ext cx="903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ss1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Randomised controlled clinical trials that agree with what I belie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00" y="3002040"/>
            <a:ext cx="511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ss2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Other prospectively collecte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40" y="3535200"/>
            <a:ext cx="28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ss3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Expert opi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4068720"/>
            <a:ext cx="8915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Randomised controlled clinical trials that do not  agree with what I belie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0" y="4941720"/>
            <a:ext cx="466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ss5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What you believe that I do n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03280" y="115920"/>
            <a:ext cx="655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Evidence based jo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4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00"/>
                </a:solidFill>
                <a:uFillTx/>
                <a:latin typeface="Times New Roman"/>
              </a:rPr>
              <a:t>Summary </a:t>
            </a:r>
            <a:endParaRPr b="0" lang="en-US" sz="66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45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need and sour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mast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nt expert Vs information mas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BM in developing count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ffff00"/>
                </a:solidFill>
                <a:uFillTx/>
                <a:latin typeface="Times New Roman"/>
              </a:rPr>
              <a:t>Conclusion</a:t>
            </a:r>
            <a:br>
              <a:rPr sz="7200"/>
            </a:br>
            <a:br>
              <a:rPr sz="5400"/>
            </a:br>
            <a:endParaRPr b="0" lang="en-US" sz="72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uture physician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are capable of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find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pplying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ew information as it becomes available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96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Information source 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uman sourc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use experiences and references to decide)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int sourc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060640"/>
            <a:ext cx="6170760" cy="914400"/>
          </a:xfrm>
          <a:prstGeom prst="ellipse">
            <a:avLst/>
          </a:prstGeom>
          <a:noFill/>
          <a:ln w="82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3640" y="2193840"/>
            <a:ext cx="439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ample size (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ection b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Information  b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ss to follow-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9760" y="1977840"/>
            <a:ext cx="417024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-1576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size (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-1576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ndom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-157680">
              <a:spcBef>
                <a:spcPts val="8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Blinding (placebo,.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-1576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T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730080"/>
            <a:ext cx="85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clinics’ trials                   R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3080" y="-69840"/>
            <a:ext cx="652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about experien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4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6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45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need and sour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mast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nt expe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BM in developing count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Information Master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Slowson and Shaughness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5:45:22Z</dcterms:created>
  <dc:creator>Dr.AKBAR SOLTANI</dc:creator>
  <dc:description/>
  <dc:language>en-US</dc:language>
  <cp:lastModifiedBy>HR</cp:lastModifiedBy>
  <dcterms:modified xsi:type="dcterms:W3CDTF">2007-04-20T06:05:15Z</dcterms:modified>
  <cp:revision>324</cp:revision>
  <dc:subject/>
  <dc:title>Information Mastery</dc:title>
</cp:coreProperties>
</file>